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43C3-29C5-43BB-B069-02515B2C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4BBF-D487-4015-A4DA-26DE68B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23FA-9732-46A7-ADD6-4DFF2C61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504C-4C7D-451C-938E-B7285DAA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92EE-9CF8-4A3E-92C0-35E5AD32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539E-052B-4075-BC5E-6A0D4CD5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D1D6-2D98-4B07-A061-6FD6D70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4B84-3B20-4F3F-9691-F7B5B4E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3AD3-B91B-4D44-AF22-CC858634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F4A9-4FC8-48EE-8B83-7ADFB6F8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F93C-32A7-4F95-B80E-CCA0A655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8612-65CB-4016-AD50-8061756E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8DF9-5CD4-4CCA-B88F-22E70BE7D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hyperlink" Target="http://www.cica.ca/" TargetMode="External"/><Relationship Id="rId8" Type="http://schemas.openxmlformats.org/officeDocument/2006/relationships/hyperlink" Target="http://www.aicpa.org/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posals for audi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accredit/certify/audit authorit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A regional PMA shoul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accredit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re-certify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coordinate peer-review (peer-audit) of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How a CA is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omic Sans MS"/>
              </a:rPr>
              <a:t>criteria for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audit proc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Should PMA be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posed audit ite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NAREGI PKI WG has subjectively selected criteria for auditing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ased 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ICPA/CICA WebTrus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 Program for Certification Autho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inimum CA requirements of APGrid PMA and EU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Web Trus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ebTrust is a seal awarded to web sites that consistently adhere to certain business standards established by the Canadian Institute of Chartered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CICA.c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 and the American Institute of Certified Public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AICP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In the program, “Web Trust Principles and Criteria for  Certification Authorities” lists criteria for C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ay too much for Grid C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6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1: CA Business Practices Disclosu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discloses its key and certificate life cycle management business and information privacy practices and provides its services in accordance with its disclosed pract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2: Service Integrit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criber information was properly authenticated (for the registration activities performed by ABC-CA)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grity of keys and certificates it manages is established and protected throughout their life cyc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2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nciple 3: CA Environmental Contro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criber and relying party information is restricted to authorized individuals and protected from uses not specified in the CA's business practices disclosure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inuity of key and certificate life cycle management operations is maintained;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 systems development, maintenance, and operation are properly authorized and performed to maintain CA systems integrit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 and proposa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 GRID CA will be audited by NAREGI CA according to the proposed criteria for audit in March 29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valuate its appropriat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will audit production-level CAs based on the proposed criteri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The proposed criteria for audit can be a starting point to establish common criteria for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circulate the proposed criteria to the CAOPs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may provide documents if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mments and discussions are wel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5T03:46:35Z</dcterms:modified>
  <cp:revision>102</cp:revision>
  <dc:subject/>
  <dc:title>スライド 1</dc:title>
</cp:coreProperties>
</file>