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8708-6855-4F16-903E-3E7148546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E06F-0901-47BB-AAE8-31C4A3EB6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AC3F-82B7-41FA-9289-A14E89080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5CE4-E1EF-4714-9514-CD1015054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5401-08E9-45BA-96D8-6DE83F00F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64BE-7D7A-42E1-9989-5E06CC63C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F3C0-320C-48C8-BB14-C6B5D66E2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2E7F-4934-4226-947F-65FBD7DE3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3A35-A734-4606-9347-D05537F2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9583-40B2-4460-B428-BBB157BD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CF17-957E-4633-813A-733655AB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AEEE-A6E5-41CC-8E97-AC702DA0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4CE99-6FD9-46A1-8170-2870A7BEC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086600" y="0"/>
            <a:ext cx="2057400" cy="1173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G Request to Regional P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GF 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h 15,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Cowles &amp; Dane Sk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reditation Pro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lize or develop accepted standard pro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re approximate parity in 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peer re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 for and arbitrate overl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 only non-overlapping CA signing policy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our participation as a relying pa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ying parties able to make known needs and raise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ction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e information about accredited 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methods for relying parties to obtain automatic information up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to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s of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 Certific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to policies &amp; cont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rdin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other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with standards organiz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p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st remains decision of resource provi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nd to encourage reliance on IGF member accred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significant value as role of common service provi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accept this requested 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08:03:05Z</dcterms:created>
  <dc:creator>Robert Cowles</dc:creator>
  <dc:description/>
  <dc:language>en-US</dc:language>
  <cp:lastModifiedBy>Robert Cowles</cp:lastModifiedBy>
  <dcterms:modified xsi:type="dcterms:W3CDTF">2005-03-15T08:33:48Z</dcterms:modified>
  <cp:revision>1</cp:revision>
  <dc:subject/>
  <dc:title>OSG Request to Regional PMA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96807805</vt:r8>
  </property>
  <property fmtid="{D5CDD505-2E9C-101B-9397-08002B2CF9AE}" pid="3" name="_AuthorEmail">
    <vt:lpwstr>rdc@slac.stanford.edu</vt:lpwstr>
  </property>
  <property fmtid="{D5CDD505-2E9C-101B-9397-08002B2CF9AE}" pid="4" name="_AuthorEmailDisplayName">
    <vt:lpwstr>Cowles, Robert D.</vt:lpwstr>
  </property>
  <property fmtid="{D5CDD505-2E9C-101B-9397-08002B2CF9AE}" pid="5" name="_EmailSubject">
    <vt:lpwstr>OSG Request to Regional PMAs.ppt</vt:lpwstr>
  </property>
  <property fmtid="{D5CDD505-2E9C-101B-9397-08002B2CF9AE}" pid="6" name="_NewReviewCycle">
    <vt:lpwstr/>
  </property>
</Properties>
</file>