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C50-726E-43EC-A087-DCB9532E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99D-1155-478F-8E65-D7F4102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3E9-E75E-4982-BA6C-49272865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267-4DEF-4165-A6B6-D1707A8C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BBA-873D-4F58-B73F-ED33C2FB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144-E95A-4535-93A6-DBCC07AF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A18-AE80-4D8A-ADD7-2685604F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15-B1BA-45E6-B375-FEC2665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DC5-2C0E-4C7C-ACB1-3332E765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5C9-BD31-41E8-9850-6EC7037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A78-B36D-46C0-BF08-2734DFD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A39-9059-4F48-930F-F9973ACD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5D7-73B5-4B3D-ADDA-1103E15A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CAOPS-WG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Document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5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SP Requirements for OCSP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lle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ony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ting Topics for Grid CA’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Yoshio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AOPS-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istos Kanellopolous is now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s to Tony for his mad st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cond session, at 17:00-18:30 in Crystal Ballroom 3, that will concern itself with the International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id Security Area meeting, 19:00-20:30 in Sapphire Ballro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in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CSP Requirements for Grid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lle, Mike, 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editor queu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kind o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PMA Model Charter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Bob, Tony, Peter, M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ertificates for Automated Client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teve, M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A Common Naming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ertificate Extension Profile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David (out of retirement agai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05:06Z</dcterms:created>
  <dc:creator>Darcy Quesnel</dc:creator>
  <dc:description/>
  <dc:language>en-US</dc:language>
  <cp:lastModifiedBy>Darcy Quesnel</cp:lastModifiedBy>
  <dcterms:modified xsi:type="dcterms:W3CDTF">2005-03-15T06:19:00Z</dcterms:modified>
  <cp:revision>4</cp:revision>
  <dc:subject/>
  <dc:title>Agenda</dc:title>
</cp:coreProperties>
</file>