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AC9-9077-4FE7-8A63-64B7A200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686-BA0C-4A1E-A765-37719B05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887-632F-41BD-8280-7B9081D6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C75-228F-44EF-BEC9-A808C4E5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5857-7313-4D9D-845B-F9496485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7301-62CA-4ACF-B2F1-4A6562DA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E6EA-C306-4EEE-82F8-69503AAB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618E-20F8-4C51-8F54-7A1583A7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B2BB-73EF-4DB9-9470-E73F5F18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CEFF-6F76-435E-989E-40C7C00B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C13D-0D67-4342-A339-ADC2FE8C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D7A-3240-4227-9990-74429816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A883-6786-46D6-8094-DFF11624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B443-3B92-4D00-BF87-7EDB1B4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B32-FB5C-4338-8F4A-228556DE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B0CA-92BB-46BC-BFE7-059DEFC6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68E9-36EC-4FA5-9A5A-EFB0EA55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D7F-05DE-46A4-A215-63293667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6F6-74BE-4353-B7F3-59DB6AD7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994-F68F-4089-B123-92E8F64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972-0AE9-4529-BAD2-892221D9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71E-6A2E-4794-BC23-4F6D5603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E39-897B-4933-9862-AF5D424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CE0-62D7-4C5B-9E9C-631D3795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379-4DA6-4079-8564-A22C57EB16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C0DE-A284-4B61-A8ED-3961415384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ridpma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tional Grid Fede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up in March 2003 – the Tokyo accord. </a:t>
            </a:r>
            <a:r>
              <a:rPr b="0" lang="en-US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GridPMA.or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 trust peering between The Americas, European and Asian Pacific commun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olicy Management Autho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GEE: Enabling Grids for E-science in Euro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Policy Management Author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Grid: National Institute of Advanced Industrial Science and Technolo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mericas Grid PMA – 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ada and USA (DO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s the establishment of top level CA registri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usted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arty repositories need for establishment of trus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oot CA certificates, CA repositories and CRL publishing poi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MA registry – de facto  (CNRS: French National Center for Scientific Researc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CA registry (AP PM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RENA TACAR (TERENA Academic CA Reposit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Global Grid Forum for publishing Standards and community best pract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9:35:45Z</dcterms:created>
  <dc:creator>Tony</dc:creator>
  <dc:description/>
  <dc:language>en-US</dc:language>
  <cp:lastModifiedBy>Tony</cp:lastModifiedBy>
  <dcterms:modified xsi:type="dcterms:W3CDTF">2005-01-28T09:36:11Z</dcterms:modified>
  <cp:revision>1</cp:revision>
  <dc:subject/>
  <dc:title>International Grid Federation</dc:title>
</cp:coreProperties>
</file>