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eugridpma-02v03trozo2" descr="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5791320" y="6597720"/>
            <a:ext cx="3097080" cy="260280"/>
            <a:chOff x="5791320" y="6597720"/>
            <a:chExt cx="3097080" cy="260280"/>
          </a:xfrm>
        </p:grpSpPr>
        <p:sp>
          <p:nvSpPr>
            <p:cNvPr id="3" name=""/>
            <p:cNvSpPr/>
            <p:nvPr/>
          </p:nvSpPr>
          <p:spPr>
            <a:xfrm>
              <a:off x="5791320" y="6597720"/>
              <a:ext cx="309708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791320" y="6597720"/>
              <a:ext cx="309708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IGF meeting, March 15 2005 - </a:t>
              </a:r>
              <a:fld id="{2D8363BC-7D45-4258-B33C-0FD90A9C370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chair@eugridpma.or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eugridpma-02v02" descr="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95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49" name="eugridpma-02v03" descr=""/>
          <p:cNvPicPr/>
          <p:nvPr/>
        </p:nvPicPr>
        <p:blipFill>
          <a:blip r:embed="rId2"/>
          <a:stretch/>
        </p:blipFill>
        <p:spPr>
          <a:xfrm>
            <a:off x="1541520" y="118584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914400" algn="ctr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3" marL="1371600" algn="ctr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4" marL="1828800" algn="ctr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5120" y="3762360"/>
            <a:ext cx="8067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Distribution Repository Structure</a:t>
            </a:r>
            <a:br>
              <a:rPr sz="3000"/>
            </a:br>
            <a:br>
              <a:rPr sz="3000"/>
            </a:br>
            <a:r>
              <a:rPr b="0" lang="en-GB" sz="2200" spc="-1" strike="noStrike">
                <a:solidFill>
                  <a:srgbClr val="000066"/>
                </a:solidFill>
                <a:latin typeface="Lucida Sans"/>
              </a:rPr>
              <a:t>David Groep, 2005.03.15</a:t>
            </a:r>
            <a:endParaRPr b="1" lang="en-US" sz="2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8" name=""/>
          <p:cNvSpPr/>
          <p:nvPr/>
        </p:nvSpPr>
        <p:spPr>
          <a:xfrm>
            <a:off x="573120" y="230040"/>
            <a:ext cx="8067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66"/>
                </a:solidFill>
                <a:latin typeface="Lucida Sans"/>
              </a:rPr>
              <a:t>http://www.eugridpma.org/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Naming convention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Each Authority will have an alias of 4-16 char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Each PMA will have a shortname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“eugridpma”, “apgridpma”, “tagpma”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Each profile will have a shortname for use in RPM specialisation and for the –with-profile= configure option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“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lassic”: traditional, secured PKI CA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“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ips”: Site Integrated Proxy Servers, kCA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“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cs”: secured Active Certs Stores, NERSC-styl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“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experimental”: testing and experimental authorities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of any kind that need distribution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“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est”: internal testing onl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Mirroring requirement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Each PMA will mirror all others &amp; the IGF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web site / directory naming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http://www</a:t>
            </a:r>
            <a:r>
              <a:rPr b="0" i="1" lang="en-US" sz="2400" spc="-1" strike="noStrike">
                <a:solidFill>
                  <a:srgbClr val="000066"/>
                </a:solidFill>
                <a:latin typeface="Lucida Sans"/>
              </a:rPr>
              <a:t>.pmaname.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org/distribution/mirror/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Mirror frequency: once dail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also mirror yourself for consistency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o “/distribution/mirror” will be same everywher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Implementation plan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…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Distribution of trust anchor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e PMA distributes a set of trust anchors for the community of all accredited CA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Although published via a secure web site, RPs are invited to cross-check the trust anchors against TACAR &amp;c.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When using common auth profiles, RPs are likely to install all accredited authorities from all PMA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Need simple, common mechanism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upport both simple tar-based installs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and RPM/yum/apt (and debian?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Distribution item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RPM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one per C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including meta-data like CRL UR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“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policy” meta-RPMS for accredited authoriti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ar ball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per C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 combined tarball with configure/install script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urrent layout (one profile only)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/distribution/current -&gt; 0.27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/distribution/0.27/...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.../accredited/RPMS/ca_NAME1-0.27-1.noarch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.../accredited/RPMS/ca_NAME2-0.27-1.noarch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.../accredited/tgz/ca_NAME.tar.gz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.../accredited/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   /cabundle-eugridpma-accredited.tar.gz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.../ca_policy_eugridpma-0.27-1.noarch.rpm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/distribution/0.27/headers/...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Proposed structure (multiple profiles)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050840"/>
            <a:ext cx="891540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/distribution/current -&gt; eugridpma/1.0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/distribution/eugridpma/1.0/accredited/RPMS/...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.../accredited/RPMS/ca_NAME-1.0-1.noarch.rpm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.../accredited/RPMS/ca_policy_eugridpma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-classic</a:t>
            </a: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-1.0-1.noarch.rpm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.../accredited/RPMS/ca_policy_eugridpma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-acs</a:t>
            </a: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-1.0-1.noarch.rpm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.../accredited/tgz/ca_NAME.tar.gz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.../accredited/tgz/cabundle-eugridpma-accredited.tar.gz</a:t>
            </a:r>
            <a:r>
              <a:rPr b="1" lang="en-US" sz="2000" spc="-1" strike="noStrike" baseline="30000">
                <a:solidFill>
                  <a:srgbClr val="000066"/>
                </a:solidFill>
                <a:latin typeface="Courier New"/>
              </a:rPr>
              <a:t>*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/distribution/eugridpma/1.0/headers/...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/distribution/mirror/current/apgridpma/...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.../apgridpma/current/accredited/ca_policy_apgridpma-classic-0.3-..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/distribution/mirror/current/tagpma/...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.../tagpma/current/accredited/ca_policy_tagpma-sips-1.2-1.noarch...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/distribution/mirror/current/eugridpma/current/...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/distribution/mirror/current/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igf</a:t>
            </a: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/...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.../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igf</a:t>
            </a: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/current/accredited/RPMS/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ca_policy_igf-classic</a:t>
            </a: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-1.0-1.noarch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700" spc="-1" strike="noStrike">
                <a:solidFill>
                  <a:srgbClr val="000066"/>
                </a:solidFill>
                <a:latin typeface="Courier New"/>
              </a:rPr>
              <a:t>requires: ca_policy_</a:t>
            </a:r>
            <a:r>
              <a:rPr b="1" i="1" lang="en-US" sz="1700" spc="-1" strike="noStrike">
                <a:solidFill>
                  <a:srgbClr val="ff0000"/>
                </a:solidFill>
                <a:latin typeface="Courier New"/>
              </a:rPr>
              <a:t>eugridpma-classic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700" spc="-1" strike="noStrike">
                <a:solidFill>
                  <a:srgbClr val="000066"/>
                </a:solidFill>
                <a:latin typeface="Courier New"/>
              </a:rPr>
              <a:t>requires: ca_policy_</a:t>
            </a:r>
            <a:r>
              <a:rPr b="1" i="1" lang="en-US" sz="1700" spc="-1" strike="noStrike">
                <a:solidFill>
                  <a:srgbClr val="ff0000"/>
                </a:solidFill>
                <a:latin typeface="Courier New"/>
              </a:rPr>
              <a:t>apgridpma-classic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/distribution/mirror/current/headers/...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66"/>
                </a:solidFill>
                <a:latin typeface="Courier New"/>
              </a:rPr>
              <a:t>*</a:t>
            </a:r>
            <a:r>
              <a:rPr b="0" lang="en-US" sz="1700" spc="-1" strike="noStrike">
                <a:solidFill>
                  <a:srgbClr val="000066"/>
                </a:solidFill>
                <a:latin typeface="Courier New"/>
              </a:rPr>
              <a:t>) ./configure --prefix=/etc/security/grid </a:t>
            </a:r>
            <a:r>
              <a:rPr b="0" lang="en-US" sz="1700" spc="-1" strike="noStrike">
                <a:solidFill>
                  <a:srgbClr val="ff0000"/>
                </a:solidFill>
                <a:latin typeface="Courier New"/>
              </a:rPr>
              <a:t>--with-profile=acs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0" lang="en-US" sz="1700" spc="-1" strike="noStrike">
                <a:solidFill>
                  <a:srgbClr val="000066"/>
                </a:solidFill>
                <a:latin typeface="Courier New"/>
              </a:rPr>
              <a:t>make install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Using the RPM repository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Having all PMA </a:t>
            </a:r>
            <a:r>
              <a:rPr b="0" i="1" lang="en-US" sz="2400" spc="-1" strike="noStrike">
                <a:solidFill>
                  <a:srgbClr val="000066"/>
                </a:solidFill>
                <a:latin typeface="Lucida Sans"/>
              </a:rPr>
              <a:t>current 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repositories mirrored under one root allows YUM/APT updates from a single sourc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If the “current” is mirrored and old files removed, manual installation is also unambiguou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Mirroring ensures getting always the latest from every PMA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Install all “classic” CAs with a single</a:t>
            </a:r>
            <a:br>
              <a:rPr sz="2400"/>
            </a:br>
            <a:r>
              <a:rPr b="0" i="1" lang="en-US" sz="2400" spc="-1" strike="noStrike">
                <a:solidFill>
                  <a:srgbClr val="000066"/>
                </a:solidFill>
                <a:latin typeface="Lucida Sans"/>
              </a:rPr>
              <a:t>yum –y install ca_policy_igf-classic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Have an “overall” policy file that includes all profiles:</a:t>
            </a:r>
            <a:br>
              <a:rPr sz="2400"/>
            </a:br>
            <a:r>
              <a:rPr b="0" i="1" lang="en-US" sz="2400" spc="-1" strike="noStrike">
                <a:solidFill>
                  <a:srgbClr val="000066"/>
                </a:solidFill>
                <a:latin typeface="Lucida Sans"/>
              </a:rPr>
              <a:t>yum –y install ca_policy_igf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RPM dependenci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pma-classic-2.3 requires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authname = 2.3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pma-3.4 requires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pma-classic = 3.4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pma-sips = 3.4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pma-acs = 3.4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igf-classic-1.0 requires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eugridpma-classic [no version!]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apgridpma-classic [no version!]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tagpma-classic [no version!]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igf-1.0 requires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igf-classic = 1.0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igf-sips = 1.0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igf-acs = 1.0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A package content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Required conten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rust anchor: 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Lucida Sans"/>
              </a:rPr>
              <a:t>c_hash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.0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RL location: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Lucida Sans"/>
              </a:rPr>
              <a:t>c_hash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.crl_ur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Namespace definition: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Lucida Sans"/>
              </a:rPr>
              <a:t>c_hash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.signing_polic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Optional conten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ERT location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Lucida Sans"/>
              </a:rPr>
              <a:t>c_hash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.ca_ur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A web page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Lucida Sans"/>
              </a:rPr>
              <a:t>c_hash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.ur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Package dependencies (RPM only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for a hierarchical PKI the RPM name of the parent C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Proposed conten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metadata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Lucida Sans"/>
              </a:rPr>
              <a:t>c_hash.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oc</a:t>
            </a:r>
            <a:br>
              <a:rPr sz="2000"/>
            </a:br>
            <a:r>
              <a:rPr b="0" i="1" lang="en-US" sz="2000" spc="-1" strike="noStrike">
                <a:solidFill>
                  <a:srgbClr val="000066"/>
                </a:solidFill>
                <a:latin typeface="Lucida Sans"/>
              </a:rPr>
              <a:t>with: alias, full name, AuthProfile, email addresses, PDS, CP/CPS link, all as “attribute=value” pair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Tar/Configure based installation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RP will download three tarball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Runs ./configure three tim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but same format for all: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prefix=path [default: /etc/grid-security/certificates]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with-profile=authprofilename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[default: all profiles]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 Groep</cp:lastModifiedBy>
  <dcterms:modified xsi:type="dcterms:W3CDTF">2005-03-13T06:57:38Z</dcterms:modified>
  <cp:revision>118</cp:revision>
  <dc:subject/>
  <dc:title>European Grid Policy Management Authority</dc:title>
</cp:coreProperties>
</file>