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802-68F7-4730-9F0E-3DDD344C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E90-3D6A-40C2-B5D0-41044FB7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13B-4876-4A2E-BA3A-BC3AB52B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82B-D10D-4495-B22D-CF586F71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4A9-3DB0-4810-B0F6-BEB64702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3B81-635D-4140-8056-7F58D698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5844-5FEB-4C74-AE6C-18EC387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0751-3BE7-4C17-992E-9386656B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BF0F-4B31-4A96-8E40-516BA217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8F48-2288-4946-B0A7-0EF987F1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DDAD-706C-491F-A55D-B9260C10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98F-768E-4709-9CF1-D72D5772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FCC8-701D-4B32-9485-760B001B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1CF0-96EC-4304-BF7E-E52453AB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6E3C-CAD6-49FC-AE54-2419199F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EC93-519E-452B-AB1C-08C8DB2E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7988-83B4-4CAB-99BA-57248642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32A-2FB8-4737-8E17-DB24C7D5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AC7-F221-4CF6-9BD4-764EAFC8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B9D-5E02-491D-87C6-AA685DE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1E6-2867-4F49-A58E-3E3AE800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070-9F73-4CAF-8655-4F1E9810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590-17CC-4922-B5B3-4AA4BC1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87B-7FF9-473D-8CFB-8C383EE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001-9463-4153-BD8E-3390D5DA451C}" type="slidenum"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cember 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5E7E-3E00-4F62-8B34-58F90E5A4C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-OPS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uthentication Prof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Genov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F team ES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rence Berkeley National 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uthentication pro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ederatio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21C-7592-4D54-B841-47EB580F7E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uthentication Profil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uthentication services will fragment the current global trust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we must allow for innovations in Authenticatio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PKI procrustean bed no longer wo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 draft GGF informational do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374-433A-45AC-901B-D3A884D19D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uthentication Profile what is in i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ervices must provide basic information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ance of authentication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membership and operational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 model that Relying parties can tr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BBC-9F35-4E03-8522-32D4690034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neral Federation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definition -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secu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ation and repository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s and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nd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265-A9A0-4725-A0E3-773668BF75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Federations that can be profil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Federation with common Auth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PS - Site Integrated Prox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A exam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SSL support - Host certificat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F - RADIUS Authentication Fa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Credential S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1C7-1151-4D0D-8F88-3C43B76A89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of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guidance material being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name to reflect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 Federations for Gr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Federation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Federation set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used by the Americas Grid PMA for chart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03A-5ED6-45C0-AB11-D89712349C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00:37:25Z</dcterms:created>
  <dc:creator>TonyG</dc:creator>
  <dc:description/>
  <dc:language>en-US</dc:language>
  <cp:lastModifiedBy>Tony</cp:lastModifiedBy>
  <dcterms:modified xsi:type="dcterms:W3CDTF">2005-03-11T00:35:46Z</dcterms:modified>
  <cp:revision>27</cp:revision>
  <dc:subject/>
  <dc:title>PKI Service changes</dc:title>
</cp:coreProperties>
</file>