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embeddings/oleObject1.bin" ContentType="application/vnd.openxmlformats-officedocument.oleObject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02C5-FE8A-4895-9E45-6D394184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DA8CC-E45E-40B4-97CC-54E54807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1016E-AD71-4902-972E-5B15AC7F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874BF-31BA-45A3-8E0C-5DA70F87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52F12-4A04-438A-8B1A-0C53D760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F4BB6-0EAA-4AE3-A69E-41B9FA54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32BA6-2A32-4940-B569-121C07AD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85AC8-6E01-424B-BA44-ACC6CFFE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E7833-5580-4233-A28E-594CEABE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62DC4-EBDC-44BE-B73F-761DEB11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77E32-877B-4E5C-B2DF-C7142789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C704F-B577-4D73-AA3E-7AF97162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25.xml"/><Relationship Id="rId16" Type="http://schemas.openxmlformats.org/officeDocument/2006/relationships/slideLayout" Target="../slideLayouts/slideLayout26.xml"/><Relationship Id="rId17" Type="http://schemas.openxmlformats.org/officeDocument/2006/relationships/slideLayout" Target="../slideLayouts/slideLayout27.xml"/><Relationship Id="rId18" Type="http://schemas.openxmlformats.org/officeDocument/2006/relationships/slideLayout" Target="../slideLayouts/slideLayout28.xml"/><Relationship Id="rId19" Type="http://schemas.openxmlformats.org/officeDocument/2006/relationships/slideLayout" Target="../slideLayouts/slideLayout29.xml"/><Relationship Id="rId20" Type="http://schemas.openxmlformats.org/officeDocument/2006/relationships/slideLayout" Target="../slideLayouts/slideLayout30.xml"/><Relationship Id="rId21" Type="http://schemas.openxmlformats.org/officeDocument/2006/relationships/slideLayout" Target="../slideLayouts/slideLayout31.xml"/><Relationship Id="rId22" Type="http://schemas.openxmlformats.org/officeDocument/2006/relationships/slideLayout" Target="../slideLayouts/slideLayout32.xml"/><Relationship Id="rId23" Type="http://schemas.openxmlformats.org/officeDocument/2006/relationships/slideLayout" Target="../slideLayouts/slideLayout33.xml"/><Relationship Id="rId24" Type="http://schemas.openxmlformats.org/officeDocument/2006/relationships/slideLayout" Target="../slideLayouts/slideLayout34.xml"/><Relationship Id="rId25" Type="http://schemas.openxmlformats.org/officeDocument/2006/relationships/slideLayout" Target="../slideLayouts/slideLayout35.xml"/><Relationship Id="rId2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68360" y="44280"/>
            <a:ext cx="8362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5"/>
    <p:sldLayoutId id="2147483676" r:id="rId16"/>
    <p:sldLayoutId id="2147483677" r:id="rId17"/>
    <p:sldLayoutId id="2147483678" r:id="rId18"/>
    <p:sldLayoutId id="2147483679" r:id="rId19"/>
    <p:sldLayoutId id="2147483680" r:id="rId20"/>
    <p:sldLayoutId id="2147483681" r:id="rId21"/>
    <p:sldLayoutId id="2147483682" r:id="rId22"/>
    <p:sldLayoutId id="2147483683" r:id="rId23"/>
    <p:sldLayoutId id="2147483684" r:id="rId24"/>
    <p:sldLayoutId id="2147483685" r:id="rId25"/>
    <p:sldLayoutId id="2147483686" r:id="rId2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68360" y="44280"/>
            <a:ext cx="8362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394920" y="1009800"/>
            <a:ext cx="8497800" cy="51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53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68360" y="164880"/>
            <a:ext cx="83628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"/>
          </p:nvPr>
        </p:nvSpPr>
        <p:spPr>
          <a:xfrm>
            <a:off x="1692360" y="638136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2"/>
          </p:nvPr>
        </p:nvSpPr>
        <p:spPr>
          <a:xfrm>
            <a:off x="8089920" y="-360"/>
            <a:ext cx="10540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E9D7-E9BA-4DBB-9CD4-EF26D72E3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5"/>
          <p:cNvSpPr>
            <a:spLocks noGrp="1"/>
          </p:cNvSpPr>
          <p:nvPr>
            <p:ph type="ftr" idx="3"/>
          </p:nvPr>
        </p:nvSpPr>
        <p:spPr>
          <a:xfrm>
            <a:off x="3924000" y="6381360"/>
            <a:ext cx="28954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360" y="6696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All rights reserved,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98100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492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All rights reserved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25560" y="5950080"/>
            <a:ext cx="163980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omic Sans MS"/>
              </a:rPr>
              <a:t>Status and plans of the APGrid P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115640" y="34290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Yoshio Tanaka (yoshio.tanaka@aist.go.jp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Grid Technology Research Center,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IST,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 Japa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APGrid PMA: Asia Pacific Grid P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General Policy Management Authority in Asia Pacifi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Launched on June 1</a:t>
            </a:r>
            <a:r>
              <a:rPr b="1" lang="ja-JP" sz="2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, 2004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Defines minimum CA requiremen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PGrid PMA approved that we accept two levels of CA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Experimental-level 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lternative of the Globus 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Can be trusted within A-P commun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Production-level 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Strict management is necess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Expected to be trusted by international commun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Members and 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08000" y="1200240"/>
          <a:ext cx="8964720" cy="5124240"/>
        </p:xfrm>
        <a:graphic>
          <a:graphicData uri="http://schemas.openxmlformats.org/drawingml/2006/table">
            <a:tbl>
              <a:tblPr/>
              <a:tblGrid>
                <a:gridCol w="1793880"/>
                <a:gridCol w="2309760"/>
                <a:gridCol w="1800360"/>
                <a:gridCol w="1873080"/>
                <a:gridCol w="1187640"/>
              </a:tblGrid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ffil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duction 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erimental 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/ 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shio Tana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CC / Taiw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ic Y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/ Ko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e-Hyuck Kw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 / 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ai N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P under 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HEP / 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nxing S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P under 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II / Singap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hore Sakhar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(y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/ Taiw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lian Yu-Chung C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saka U / 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sumu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SC / 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on Ka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/ HongK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en Lin, El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 of Hyd / I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un Agarw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 / Malay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on Ya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PAC / Austr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vid Abram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Many members were inactiv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could not have motivation for active particip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satisfy with using experimental CA (simple C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non experts of PKI/Security and have less interests for the secu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Situation is going to be change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Some CAs have a plan for launching a production-level 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IHEP / China, CAS / China, NCHC / Taiwan, VPAC / Austral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U. of Tsukuba is involved in Lattice QC Grid project and it expects NAREGI CA to be trusted by European and American C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PGrid PMA should be able to help thi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l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Change membership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General membersh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has no voting 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Ex officio membersh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has voting 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has obligation for commit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representatives of production-level C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representatives of experimental-level CAs in request bas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Invite representatives of relying parties to the APGrid PM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Change accreditation procedur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Now: voting using emai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Plan: have regular face-to-face meeting / VTC (regular meeting and request-basi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Define procedures for re-certify CA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peer-audit or PMA (chair) will audit all C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Should establish formal relationship with the other PMA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SCC, IHEP should belong to only APGrid P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PGrid PMA has two main objective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be responsible as a regional PMA in Asia Paci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define minimum CA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ccredit and audit C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support CAs in Asia Paci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help / give advice to launch C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inform the current status and future direction about our efforts (IGF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It was less active, but the situation is going to be improved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Re-organize the P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Changed the accreditation proced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Will have face-to-face mee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Will do aud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02:50:34Z</dcterms:created>
  <dc:creator>Yoshio</dc:creator>
  <dc:description/>
  <dc:language>en-US</dc:language>
  <cp:lastModifiedBy>Yoshio</cp:lastModifiedBy>
  <dcterms:modified xsi:type="dcterms:W3CDTF">2005-03-14T15:54:41Z</dcterms:modified>
  <cp:revision>102</cp:revision>
  <dc:subject/>
  <dc:title>スライド 1</dc:title>
</cp:coreProperties>
</file>